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7D5-8181-4766-827F-BEF41636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669-BE53-4E40-BAF8-75D3908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A56-4FAC-45CE-A095-A14F5289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412-39DA-428F-A279-D1710497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CBF-B02F-4EED-A26E-A04DE22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C26-9DEC-425E-BB8B-16DC0E1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146-940B-4FFD-9B0D-01107279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524-1107-463F-A56E-66AF88E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FD2-7174-40D7-A491-9CD01B97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D5E-E64B-4312-968E-B68CE7A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7F3-4179-4556-A53E-D855EE0A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AD0-4D63-441E-912E-E8FFA79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CF77-8417-4591-8F13-BC2658C7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Graham B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lex, Cody, Jason, and 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Graham Bell  invented the telegraph in 187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2920" y="2970360"/>
            <a:ext cx="2427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47 in Edinburgh, Scotland and died in 1922 in Baddeck, Nova Scotia, in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2:06Z</dcterms:created>
  <dc:creator>Montour School District</dc:creator>
  <dc:description/>
  <dc:language>en-US</dc:language>
  <cp:lastModifiedBy>Montour School District</cp:lastModifiedBy>
  <dcterms:modified xsi:type="dcterms:W3CDTF">2008-05-22T13:10:39Z</dcterms:modified>
  <cp:revision>3</cp:revision>
  <dc:subject/>
  <dc:title>Alexander Graham Bell </dc:title>
</cp:coreProperties>
</file>